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D1B2-CFBF-44C8-AEFB-06B16E653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senior developer and das coordinator at the sanger, previously I was a bioinformatics consultant and used DAS many years ago as an “us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Stops us from suffering under too much data to man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 to download annotations for regions of interest rather than for whole genomes or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data providers to be in control of their annotations displayed to the world and can keep them up to date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Annotation System, allows  data providers to provide their data over the web in a common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possible http requests and standard xm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embl, Apollo, Gbrowse, Spice fo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 can be a genome build such ncbi_36 or uniprot protein sequences for alig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an then get a list of das sources that are available for each coordinate system which the user chooses ones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/user then chooses a region of interest e.g. human chromosome 1 bases 1 million 1.1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then shows the annotations on this region from local sources as well as remote das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 in early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.53E later with support for proteins added and the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ity of users see no great advantage of moving to DA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s or DAS1 servers compared to a handful of DAS2 ser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CB6-8243-4A79-96C7-FCF3FAC9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89E-4C4C-4E10-B5A3-1560988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E17-7365-4CEA-92F8-B7EB855A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3EB-1CFE-4527-9BC3-1DC2C0D2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FA3-34A0-4DF1-9311-D4F99BAD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8D66-F98D-4566-A9B1-413E9051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297-4D4C-4E56-913E-E9385A38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2CCA-8D3F-48A8-A7CF-246D33DC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7107-73C6-403F-99F8-ADAD14E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9884-1DE3-473C-BD0D-FF04228C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42DC-9306-4CEB-825E-BC91473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CFE-ABFB-4273-BFCE-403F8837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45E3-24D5-4A1E-9CAE-32545F8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92AC-EB67-480C-8959-9A86F409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A7D2-4157-4984-BC27-FB7C94E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CC5C-FF0B-4066-9277-21B50BB9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41E6-16D0-4156-8B0F-CA7273D9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708-C922-4A84-8EA5-73E1BE5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4B4-418F-493F-A347-EFD7A08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F43-B6D6-477D-B92A-1707567A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F63-8A20-418E-9D92-E1252ED5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A8B-8D83-48AF-BB15-C5AEFC6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FF5-B117-424F-8229-9A07D1E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7AE-C7E4-4215-B825-86EF53C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E6DA-289F-4045-9EC4-39ACE37B1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299-EB46-43EE-A347-07BD7BF0D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das.org/" TargetMode="External"/><Relationship Id="rId2" Type="http://schemas.openxmlformats.org/officeDocument/2006/relationships/hyperlink" Target="http://www.dasregistry.org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asregistry.org/das/source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sregistry.org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Current Situation and 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oordinator for the Sang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identify when two DAS servers are using the same coordinate system (doable with help of Sanger DA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tandard way to create and edit DAS features 1.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whether a DAS server is compliant with the 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improving interoperability between clients and servers developed by different groups.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lidation capability of the registry for 1.53E and upcoming 1.6E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asregistry.org/validation/sources.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546880"/>
          </a:xfrm>
          <a:prstGeom prst="rect">
            <a:avLst/>
          </a:prstGeom>
          <a:ln w="9360">
            <a:solidFill>
              <a:srgbClr val="e81a07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520" y="7632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sregistry.org/das/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sregistry.org/services/das:das_directory?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6761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800" y="68400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2118960"/>
            <a:ext cx="7340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idation (headers and feature by 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of bulk uploading/mirroring DAS sources to Registry (sources c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ll of ensembl genomes (bacteria and viruses) as DAS sources and to the reg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1.6 spec - hierarchies, next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client libraries and servers to work with both 1.53 and 1.6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ser interface to the registry for faster searching using Lucene - also limited version available from Sanger and EBI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supprt for ontologies-give me all das sources that provide g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rver, L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Das::Lite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, My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obert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provi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Affyme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ioSapien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semb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KEG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nger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Genomic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Protein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niprot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GR's list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CSC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i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Ensem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f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story and curren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at the moment and 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y Jenkinson (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P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g H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Hub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00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556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t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TTP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one registry for DAS serv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region of interest from the reference and many annotations from the DAS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7" descr="Canonical DAS.tiff"/>
          <p:cNvPicPr/>
          <p:nvPr/>
        </p:nvPicPr>
        <p:blipFill>
          <a:blip r:embed="rId1"/>
          <a:srcRect l="0" t="-2192" r="0" b="-2192"/>
          <a:stretch/>
        </p:blipFill>
        <p:spPr>
          <a:xfrm>
            <a:off x="0" y="1752480"/>
            <a:ext cx="9144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e “intelli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should be spec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que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xml format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The Distributed Anno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D Dowell, Rodney M Jokerst, Allen Day, Sean R Eddy and 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1.53E + DAS2 running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orkshop in March this year DAS1.6E is expected to provide the functionality that DAS2 users desired =&gt; DAS2 is d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spec has new features and is a consolidation of the way DA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E has extensions being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1.5/1.6 Comma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- address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features with more than two levels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y relate feature types to a more structured ontology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24Z</dcterms:created>
  <dc:creator>Sanger Institute</dc:creator>
  <dc:description/>
  <dc:language>en-US</dc:language>
  <cp:lastModifiedBy>Sanger Institute</cp:lastModifiedBy>
  <dcterms:modified xsi:type="dcterms:W3CDTF">2009-08-07T14:26:31Z</dcterms:modified>
  <cp:revision>43</cp:revision>
  <dc:subject/>
  <dc:title>DAS Current Situation and Future Developments</dc:title>
</cp:coreProperties>
</file>